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ECFA3-F91B-4F67-919A-A51ECB2A1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97280-9934-4FE3-9764-DA8E22AAC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FD366-90AB-450F-BAA5-9ED6BEFBC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D7531-EA27-4C40-9758-B65E7B23B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2BBAE-F5B8-48CC-85CA-7B97FC4EF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07F7D-137B-420F-81C5-827810E59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D3C4A-603E-42DE-A066-C988C2B6D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BC6EA-5163-4F41-AA4A-CAD1B0FBB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ADD7-A5E5-4A44-87FB-095647E1B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33BEF-76E8-420F-9B08-A24DF2D02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83D04-9D05-4789-836A-A5D10CD21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81AF3-A908-4139-A958-151832939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742C-3784-4653-9F73-53F7D4D8D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4284-1B98-49A7-B013-377082595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9DFC-C43B-417A-9338-E9C8453E1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0791-E717-499F-9644-314792226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872D7-E219-4606-9F20-A5499F6FF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0B4B4-753E-4AEA-BA70-1D97AE4B9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B31B1-8168-4C6E-8D13-8DDD15480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CE4B7-902A-425C-A7EB-A8763D3D0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AFFB2-0336-47B5-8EC2-A0BFCFAE8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762120"/>
            <a:ext cx="8229600" cy="37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C1E82-B93C-4422-A162-1C50E2EEF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5FA31-4F9C-4A7F-9AD3-7DC53E02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9BEE-A659-4E7C-9D66-F07146C69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72EF5-7428-4FBA-8A17-83B84D1D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AC0A9-77B4-4C8A-8ADE-6317ADCE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A2A60-AE47-455C-9B23-A83B34226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70AEB-4429-4B2E-B4C5-C527842E6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8E23F-CD1E-4B8C-BF7E-2F9EF9F30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F8EB-0591-4B83-B1A8-1B6655BF3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8B84-B547-4328-A6CF-11349150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67D3-C694-48C6-BDF6-9ACCC5B26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762120"/>
            <a:ext cx="8229600" cy="37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F2FD-2C97-4F2C-9944-ED50A8B80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3B1B-445E-420F-8252-76E86997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233C-2FEE-4010-917F-D11E778E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F0AD-9EE8-4097-BC66-AE012B0A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C:\Users\Alex\Desktop\Send Back to FTP\LO banner art\BIO10NAE_01_LOT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952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DA4B7-A122-4D63-B6E4-2FD0A738D58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414BD-58A0-45E9-9578-5B11F80D94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Placeholder 2"/>
          <p:cNvSpPr/>
          <p:nvPr/>
        </p:nvSpPr>
        <p:spPr>
          <a:xfrm>
            <a:off x="0" y="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esson Overvi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Subtitle 2"/>
          <p:cNvSpPr/>
          <p:nvPr/>
        </p:nvSpPr>
        <p:spPr>
          <a:xfrm>
            <a:off x="2971800" y="0"/>
            <a:ext cx="5943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at Is Scienc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0" descr="C:\Users\Alex\Desktop\Send Back to FTP\LO banner art\BIO10NAE_01_LOT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952560"/>
          </a:xfrm>
          <a:prstGeom prst="rect">
            <a:avLst/>
          </a:prstGeom>
          <a:ln w="0">
            <a:noFill/>
          </a:ln>
        </p:spPr>
      </p:pic>
      <p:sp>
        <p:nvSpPr>
          <p:cNvPr id="45" name="Text Placeholder 2"/>
          <p:cNvSpPr/>
          <p:nvPr/>
        </p:nvSpPr>
        <p:spPr>
          <a:xfrm>
            <a:off x="0" y="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esson Overvi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ubtitle 2"/>
          <p:cNvSpPr/>
          <p:nvPr/>
        </p:nvSpPr>
        <p:spPr>
          <a:xfrm>
            <a:off x="2971800" y="0"/>
            <a:ext cx="5943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at Is Scienc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C:\Users\Alex\Desktop\Send Back to FTP\LO banner art\BIO10NAE_28_LOTB.jpg"/>
          <p:cNvPicPr/>
          <p:nvPr/>
        </p:nvPicPr>
        <p:blipFill>
          <a:blip r:embed="rId3"/>
          <a:stretch/>
        </p:blipFill>
        <p:spPr>
          <a:xfrm>
            <a:off x="0" y="0"/>
            <a:ext cx="9144000" cy="977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C:\Users\Alex\Desktop\Send Back to FTP\LO banner art\BIO10NAE_01_LOTB.jpg"/>
          <p:cNvPicPr/>
          <p:nvPr/>
        </p:nvPicPr>
        <p:blipFill>
          <a:blip r:embed="rId4"/>
          <a:stretch/>
        </p:blipFill>
        <p:spPr>
          <a:xfrm>
            <a:off x="0" y="0"/>
            <a:ext cx="9144000" cy="9777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F7DC3-D20B-4010-B43D-EDE39CF9B0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18E20-76C0-4FC5-9B8B-971B6F08A2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Bell Ring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me 2 laboratory safety procedures that we will use in biology this ye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Thinking Like a Scienti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fter making observations scientists can make inferen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fere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 logical interpretation based on prior knowledge or experienc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ferences can help to form a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ypothesi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1"/>
          <a:stretch/>
        </p:blipFill>
        <p:spPr>
          <a:xfrm>
            <a:off x="5181480" y="4038480"/>
            <a:ext cx="365760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Inferring and Forming a Hypothe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ypothesi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proposed scientific explan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or a set of observation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hypothesis may be ruled out or confirm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0" y="4165560"/>
            <a:ext cx="4027320" cy="2692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2"/>
          <a:stretch/>
        </p:blipFill>
        <p:spPr>
          <a:xfrm>
            <a:off x="5105520" y="4162320"/>
            <a:ext cx="403848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Explaining and Interpreting Evide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ypotheses are tested by performing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ntrolled experimen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tretch/>
        </p:blipFill>
        <p:spPr>
          <a:xfrm>
            <a:off x="2075040" y="2668680"/>
            <a:ext cx="4724280" cy="31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51920" y="914400"/>
            <a:ext cx="8642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00"/>
                </a:solidFill>
                <a:latin typeface="Calibri"/>
              </a:rPr>
              <a:t>Designing Controlled Experi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factors that change in an experiment are called vari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ly one variable should be changed during the experi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other variables should be kept unchanged, or controll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00"/>
                </a:solidFill>
                <a:latin typeface="Calibri"/>
              </a:rPr>
              <a:t>Designing Controlled Experi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-152280" y="1600200"/>
            <a:ext cx="8991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f several variables are changed in the experiment, researchers can’t tell which variable is responsible for any results they observ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variable that is deliberately changed is called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dependent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variable that is observed and that changes in response to the independent variable is called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pendent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560" y="16002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information gathered from observations is calle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a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antitative: Numbers (measurement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alitative: Descriptive and usually can’t be counte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C:\Users\Alex\Desktop\Batch 4\Art\Art 3_18_09+\BIO10NAE_01_01_02_005_LRIM_06.png"/>
          <p:cNvPicPr/>
          <p:nvPr/>
        </p:nvPicPr>
        <p:blipFill>
          <a:blip r:embed="rId1"/>
          <a:stretch/>
        </p:blipFill>
        <p:spPr>
          <a:xfrm>
            <a:off x="0" y="4114800"/>
            <a:ext cx="9142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Arial"/>
              </a:rPr>
              <a:t>Drawing Conclusions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cientists use experimental data as evidence to support, refute, or revise the hypothesis being tested, and to draw a valid conclus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C:\Users\Alex\Desktop\Batch 4\Art\Art 3_18_09+\BIO10NAE_01_01_02_005_LRIM_08.png"/>
          <p:cNvPicPr/>
          <p:nvPr/>
        </p:nvPicPr>
        <p:blipFill>
          <a:blip r:embed="rId1"/>
          <a:stretch/>
        </p:blipFill>
        <p:spPr>
          <a:xfrm>
            <a:off x="3124080" y="2971800"/>
            <a:ext cx="294660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Science as a Way of Know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cience is an ongoing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proces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that involv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king ques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serv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king infere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sting hypothe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>
            <a:off x="4724280" y="2286000"/>
            <a:ext cx="4116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Science and Human Valu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cause of new knowledge gained through research, scientists continually revise and reevaluate their id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understanding of science and the scientific approach is essential to making intelligent decisions about many important topic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0" y="4800600"/>
            <a:ext cx="30891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Bell Ring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e biology using your own word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______________________________________________________________________________________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0" y="1676520"/>
            <a:ext cx="903456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C:\Users\Alex\Desktop\Send Back to FTP\LO stills - splash screens\BIO10NAE_24_CTBG.jpg"/>
          <p:cNvPicPr/>
          <p:nvPr/>
        </p:nvPicPr>
        <p:blipFill>
          <a:blip r:embed="rId1"/>
          <a:stretch/>
        </p:blipFill>
        <p:spPr>
          <a:xfrm>
            <a:off x="228600" y="198360"/>
            <a:ext cx="4954680" cy="63547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181120" y="2133360"/>
            <a:ext cx="396252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  <a:ea typeface="Arial"/>
              </a:rPr>
              <a:t>Chapter 1.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5028840" y="3219480"/>
            <a:ext cx="426708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Is Scienc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ily 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tate and explain the goals of scie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cribe the steps used in the scientific metho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The Goals of Science are to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-381240" y="1752120"/>
            <a:ext cx="89154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estigate and understand the natural worl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lain events in the natural worl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those explanations to make useful predic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5715000" y="4267080"/>
            <a:ext cx="2973240" cy="22291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"/>
          <p:cNvPicPr/>
          <p:nvPr/>
        </p:nvPicPr>
        <p:blipFill>
          <a:blip r:embed="rId2"/>
          <a:stretch/>
        </p:blipFill>
        <p:spPr>
          <a:xfrm>
            <a:off x="380880" y="4724280"/>
            <a:ext cx="178776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What Makes Science Uniqu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ience deals only with the natural worl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ientists collect and organize information in a careful, orderly way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ientists propose explanations that can be tested by examining evide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What Science Is and Is No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cienc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an organized way of using evidence to learn about the natural worl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5257800" y="2895480"/>
            <a:ext cx="30481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Observing and Asking Ques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ientific thinking begins with observa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bserv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the process of gathering information about events or processes in a careful, orderly wa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servation generally involves using the sens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1"/>
          <a:stretch/>
        </p:blipFill>
        <p:spPr>
          <a:xfrm>
            <a:off x="6477120" y="3867120"/>
            <a:ext cx="266688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16:06:20Z</dcterms:created>
  <dc:creator>Alex</dc:creator>
  <dc:description/>
  <dc:language>en-US</dc:language>
  <cp:lastModifiedBy>dzahm</cp:lastModifiedBy>
  <dcterms:modified xsi:type="dcterms:W3CDTF">2013-09-04T18:15:07Z</dcterms:modified>
  <cp:revision>85</cp:revision>
  <dc:subject/>
  <dc:title>Slide 1</dc:title>
</cp:coreProperties>
</file>